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FEC-FABB-4C29-90A1-18840DFE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778-DB10-4244-ACF4-868A1A39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4E1-8026-453D-8F71-5BCC5E8C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36C-D912-4E76-BF59-11DEFC2B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51B-4684-4616-8191-61023290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354-D081-4DA0-8BBC-1DD52FA7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D24-2317-4B7E-A5DD-410BFA5E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B2D-C8F5-47AD-85ED-DB39FFC6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7E4-481C-4400-994F-B9012D44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66A-C593-4E80-B751-A48EDB21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95D-7E1E-43DF-9A58-F9761EC8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34C-3BC3-4B9E-93DE-788B4BC5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1549-B3C2-4CEF-8560-A7BFC0175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Coelus" TargetMode="External"/><Relationship Id="rId2" Type="http://schemas.openxmlformats.org/officeDocument/2006/relationships/hyperlink" Target="http://es.wikipedia.org/wiki/Tellus" TargetMode="External"/><Relationship Id="rId3" Type="http://schemas.openxmlformats.org/officeDocument/2006/relationships/hyperlink" Target="http://es.wikipedia.org/wiki/Tit&#225;n_(mitolog&#237;a)" TargetMode="External"/><Relationship Id="rId4" Type="http://schemas.openxmlformats.org/officeDocument/2006/relationships/hyperlink" Target="http://es.wikipedia.org/wiki/Ops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nografias.com/trabajos/roma/roma.s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6/Statue_of_Zeu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 de los romanos antigu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ul, Daniel y R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no es el hijo menor d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e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l Cielo, y de la antigu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l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a Tierra, tras derrocar a su padre, Saturno obtuvo de su hermano may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itá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 favor de reinar en su lugar. Titán puso una condición: que Saturno debía matar a toda su descendencia, para que la sucesión del trono se reservase a sus propios hi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no se casó co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ibeles), con quien tuvo varios hijos que devoró ávidamente, como había convenido con su hermano. Sabiendo además que un día sería a su vez destronado por uno de sus hijos, exigía a su esposa que le diese a los recién nacidos. Sin embargo, Cibeles logró salvar a Júpiter. Éste, una vez adulto, hizo la guerra a su padre, derrotándole y expulsándole del cielo. Así la dinastía de Saturno perduró en detrimento de la de Tit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dice que Saturno quedó reducido a la condición de simple mortal, yendo a refugiarse al Lacio, donde puso orden entre los hombres salvajes y les dio le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tian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ligion cristiana experimento persecucion pesada en el Imperio Ro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ristianismo empezo en los tiempos romanos Jesucristo nacio y murio durante el reino del Rey Her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os en roma se hicieron cristi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16286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tian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fenomenal fuego en a.d 64 quemo mas de la mitad de r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o culpo alos cristianos y empezo a matarlo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nte los proximosd 200 años los cristianos sufrian la derr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Archivo:Cristo crucificado.jpg"/>
          <p:cNvPicPr/>
          <p:nvPr/>
        </p:nvPicPr>
        <p:blipFill>
          <a:blip r:embed="rId1"/>
          <a:stretch/>
        </p:blipFill>
        <p:spPr>
          <a:xfrm>
            <a:off x="1752480" y="2666880"/>
            <a:ext cx="38386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ib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ización de los principales dioses de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o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55054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s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piter era el rey de los di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l fue el dios mas importante para los Ro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piter fue muy infiel a su esp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rchivo:Statue of Ze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733920"/>
            <a:ext cx="60483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s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piter era conocido como el rey de la just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e coronado como el rey del cielo y de la ti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 repartio sus riquesas a sus her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3886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s Satu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o se comia a sus hi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su esposa tuvo seis hijos el se comio a cin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quinto hijo era Z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276084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s Satu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saturnalia era un festival que se celebraba al dios Saturno el 17 de Dicie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nte las fiestas se suspendia los esclavos los dejaban en liber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esclavos podian pner los defectos de sus amos jugar contra ellos esto les servia la com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3962520"/>
            <a:ext cx="44956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osa G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 creo el universo y dio nacimiento al primer grupo de Dio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esposo era el Dios Urano el dios del ci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a presedia en los matrimonios y fue honrada como profe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2666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s Nept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tuno fue el nombre que los romanos antguos le dieron al dios griego de los mares y los terremotos,Poseid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tuno era el hermano del Dios Z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tuno era el dios del 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278460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47920" y="2666880"/>
            <a:ext cx="2817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bol Geneo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592280"/>
            <a:ext cx="8229600" cy="1053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21:18Z</dcterms:created>
  <dc:creator>School District U46</dc:creator>
  <dc:description/>
  <dc:language>en-US</dc:language>
  <cp:lastModifiedBy>School District U46</cp:lastModifiedBy>
  <dcterms:modified xsi:type="dcterms:W3CDTF">2009-03-18T15:11:52Z</dcterms:modified>
  <cp:revision>27</cp:revision>
  <dc:subject/>
  <dc:title>Religion de los romanos antiguos</dc:title>
</cp:coreProperties>
</file>